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F114-077B-48AE-B318-A1C65493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1B87-DBE4-4F72-93AA-0425BF81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4E37-444C-4560-89B2-CC65E61CC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61C9-9A10-4914-9037-6615A6474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F63F-92BF-45DD-8F4C-10EBA7C6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F689-71BC-4D1E-BE4B-B8A6DCEA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2B01-D73E-436D-801A-E542CE4A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F316-BB31-4C25-9584-116F34CD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C4E3-F01A-4052-8A9D-AB538F7C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3991-FC7F-41F2-AA67-DCF19AF0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F7D7-9B03-4351-95C6-C533F52B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73D4-E163-482A-A7C3-9180F2A6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2B6F-46F5-40E6-B544-B7E3D416E3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bits.blogs.nytimes.com/2012/08/15/daily-report-germans-reopen-facebook-privacy-inquiry/" TargetMode="External"/><Relationship Id="rId2" Type="http://schemas.openxmlformats.org/officeDocument/2006/relationships/hyperlink" Target="http://phys.org/news/2012-08-german-facebook-delete.html" TargetMode="External"/><Relationship Id="rId3" Type="http://schemas.openxmlformats.org/officeDocument/2006/relationships/hyperlink" Target="http://www.post-gazette.com/stories/business/technology/germany-reopens-facebook-privacy-inquiry-649070/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profile.ak.fbcdn.net/hprofile-ak-snc4/174834_20531316728_3694083_n.jpg&amp;imgrefurl=http://www.facebook.com/facebook&amp;usg=__lr0jteIX5ueX2w92rQ-tsuxgCLQ=&amp;h=200&amp;w=200&amp;sz=7&amp;hl=en&amp;start=1&amp;zoom=1&amp;tbnid=k5lIFSuPJjnXOM:&amp;tbnh=104&amp;tbnw=104&amp;ei=gHczUOaDB6f20gG51oDQAw&amp;prev=/search%3Fq%3Dfacebook%26um%3D1%26hl%3Den%26safe%3Dactive%26sa%3DN%26gbv%3D2%26tbm%3Disch&amp;um=1&amp;itbs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dia, Communication, and  Leisure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rnet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erman Facebook Investigatio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Leila Becirev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 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ourc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ily Report: Germans Reopen Facebook Privacy Inquiry 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bits.blogs.nytimes.com/2012/08/15/daily-report-germans-reopen-facebook-privacy-inquiry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rman Official: Facebook must delete faces (update) 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http://phys.org/news/2012-08-german-facebook-delete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rmany Reopens Facebook Privacy Inquiry 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http://www.post-gazette.com/stories/business/technology/germany-reopens-facebook-privacy-inquiry-649070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19320" y="6172200"/>
            <a:ext cx="68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theeword.co.uk/uploads/German_state_bans_the_Facebook_Like_button_867.jp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rman official Johannes Caspar wants Facebook to delete faces from its databas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etings with Facebook to bring its practices in line with German and European Union privacy policies have fail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par has stated that he will be re-opening a delayed investigation of Menlo Park, a California-based compan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order to find a legally sound solution with regard to the use of biometric data.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par is highly critical of the tagging fe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par says that Facebook will have to delete its data unless it is approved by the users because it is a legal requirement to obtain consent in order to collect and process biometric dat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annes Caspar, the German official leading the German investig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476760" cy="4572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347560" y="6400800"/>
            <a:ext cx="380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cdn2.pc.de/images/6/9/e/d/512/28eb024aa4.jp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51920" y="456840"/>
            <a:ext cx="86108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ebook is under investigation by German officials for illegally compiling a database of users photos without their cons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repeated attempts to convince Facebook to change its policies had failed, the investigation (which was suspended in June) reope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par said that he plans to send a request to Facebook to amend its practices by the end of September and end the investig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ebook said that it was not breaking any European Union laws with the tagging featu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eland’s deputy data commissioner Gary Davis, said Facebook agreed to suspend the photo tagging feature for all Europeans who join the site as of July 1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ebook is being investigated by German offici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5715000" cy="4286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70080" y="6248520"/>
            <a:ext cx="649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techgadgetsweb.com/wp-content/uploads/2012/08/120622_facebook-300x225.jp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228240"/>
            <a:ext cx="83059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annes Caspar led Germany’s investigation of Google’s collection of personal data and is leading the investigation of Faceboo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ebook has a photo tagging feature which allows users to attach the names of people that are in the picture they have uploaded. Caspar wants users to have to opt-in to use the photo tagging feature on Facebook rather than opt-ou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ebook’s European operation is incorporated in Ireland and maintains that the practice is legal the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econd audit of Facebook’s data is being performed by Irish official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Facebook refuses to delete its biometric data, the fine they must pay in Germany is $30,000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acebook Logo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175248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51320" y="5943600"/>
            <a:ext cx="566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profile.ak.fbcdn.net/hprofile-ak-snc4/174834_20531316728_3694083_n.jp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iz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) What is the fine for Facebook in Germany if they do not delete their databa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 $3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 $4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 $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) Where is Facebook’s European operation incorporat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 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 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 Irel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swer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)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)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0T11:56:09Z</dcterms:created>
  <dc:creator>SCSadmin</dc:creator>
  <dc:description/>
  <dc:language>en-US</dc:language>
  <cp:lastModifiedBy>SCSadmin</cp:lastModifiedBy>
  <dcterms:modified xsi:type="dcterms:W3CDTF">2012-08-23T12:14:22Z</dcterms:modified>
  <cp:revision>12</cp:revision>
  <dc:subject/>
  <dc:title>Media, Communication, and  Leisure: Internet German Facebook dilemma    </dc:title>
</cp:coreProperties>
</file>